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B53-8801-409D-9789-1A5848AA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95A-A0E3-47F1-8BD4-8DFAF65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F57-04CA-4BC5-859A-A54EE763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A1F-1C41-406C-9539-67001466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49F-BE74-45A9-B981-FF9D61B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DC7-E081-4A1C-950F-CD5B2A6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5B2-283E-4EB3-986C-3B967345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3C2-0E50-4118-B51E-1CF5043B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A56-DB59-493C-AA3E-7E7F2EE0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E47-6551-4585-A121-C91220F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E91-0082-4397-82DD-F36CEF3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C53-819E-4132-9858-9E135EA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CC55-71D7-41BF-A520-6EA8C3FE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people like more processed beef or feedyard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yton D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two hours gathering materials and co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30574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Zane, Erik, Tristen, Tristin, Kaci, Hannah, Holly, and Sara. To my mom for getting the hamburger from Dill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History of Hamburgers, Hamburger History, Hamburg Steak, What Is a True Hamburger? Meat Choppers, Cheeseburgers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What's Cooking America, Cooking Recipes, Food History, Dinner Party Menus and Recipes, Health and Beauty Articles, Culinary Dictionary, Baking Hints, Cooking Tips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whatscookingamerica.net/History/HamburgerHistory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the Hamburger | A Hamburger Today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A Hamburger Today - America's Favorite Hamburger Weblog!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Web. 19 Jan. 2012. &lt;http://aht.seriouseats.com/archives/2005/08/the_history_of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Hamburgers - From the Saddle to the Drive up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Barbecue Recipes and Grill Information from Barbecue &amp; Grilling at About.com - BBQ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bbq.about.com/cs/hamburgers/a/aa070597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I would do this because I love to BBQ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my hobbies. I love cooking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how me almost any recipe and if I have the ingredients an the tools I can ma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76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st subjects will like the feed yard beef l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485880" cy="255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12408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352680" y="4952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5910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y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ok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t them eat and tell me what they        think on a scale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cord data in excel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3457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Processed beef to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Their choice on what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Same beef for both girls and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908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 cooked the burgers. I asked my test subjects what they thought would tast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181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ncluding boys and girls thought the feedyard beef tasted better. Out of ten all my test subjects gav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271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got ahold of my information then they would know the processed meat doesn’t taste as good as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502920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39084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20:15Z</dcterms:created>
  <dc:creator>USD376</dc:creator>
  <dc:description/>
  <dc:language>en-US</dc:language>
  <cp:lastModifiedBy>USD376</cp:lastModifiedBy>
  <dcterms:modified xsi:type="dcterms:W3CDTF">2012-03-23T16:16:41Z</dcterms:modified>
  <cp:revision>12</cp:revision>
  <dc:subject/>
  <dc:title>What do people like more processed beef or feedyard beef?</dc:title>
</cp:coreProperties>
</file>